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F9CA9-7B1A-424F-AD03-81B6ABDFA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22B8B-FDF5-481F-AD13-167A35839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55348-E7A3-4600-AAC1-99001D26E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B2235-4475-4C3D-A0F6-F8977E315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6AD75-92E5-48A4-AA22-7A917F0F6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D9A6EE-AFE3-486F-B360-34BD03FC8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1664C-898C-4CF3-98A9-668744BF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2EE4-419C-4E6A-BC55-C492544B3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7E0A2-C768-43F0-8D6A-6B48B25ED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4357-C833-4E4B-8577-89C67F569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EABA7-DBE4-45B8-8DDE-483F66A1C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9F6FB-3697-4681-8C11-D6D440B12B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C493CFA2-1A27-462D-88A2-3554A7F15FED}" type="datetime">
              <a:rPr b="0" lang="en-US" sz="5500" spc="-1" strike="noStrike">
                <a:solidFill>
                  <a:srgbClr val="898989"/>
                </a:solidFill>
                <a:latin typeface="Calibri"/>
              </a:rPr>
              <a:t>07/28/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0263243D-65AD-4130-84CF-960D58CFFA26}"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